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FF0-D925-4D3D-90A0-0710753E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E81-1140-48D2-ACD4-41BA7748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19-8815-47DA-8A95-2ED0DBDE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414-0D79-4B95-A4B7-ABB25359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B416-3581-4BDE-B32F-D9DE6B62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B322-5E08-4DEE-BC85-9CB66C35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17F2-2CEA-47B6-BBD8-6C59C094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F322-3705-4E2A-8865-7E791F4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E48E-AEB6-47E9-B765-84DEFFFD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E5A7-F315-48B6-9878-16D7A3BF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D7B-705D-4C5A-9AED-B30637B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0E9-A17A-4635-B687-37899BD2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41E8-CB18-4DA9-89CD-7A248A5C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D3F3-8BB2-4B16-9BF7-DB7C4E6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7213-B93D-4DBA-9450-C62660B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2B4B-BCAD-41D6-BDA8-CE306AD3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97CE-B548-4495-9AE9-453D67E8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575-C35B-42C7-B8F4-5E76525C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CF2-15CE-40FF-942D-66789FC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663-6E28-4FCD-AEB5-2BD0C01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20D-7DE7-440C-B817-420317F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243-DED6-4B8A-AC4B-7B148D2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A8A-7934-4C45-904E-77136F1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6C8-DA0A-43DA-8E4B-BDB09FE3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34CB-C984-4DD7-AB60-ABE17C8AA69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B4DD-7F4D-43CC-A2F6-F0A97B367D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fla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gerb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167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КОНСТИТУЦИЯ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РОССИЙСКОЙ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ФЕДЕРАЦИ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Что такое “право” и что такое “обязанность”? В чем их различие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” - это то, что государство гарантирует дать своим гражданам, а вот “обязанность”, наоборот, - это то, что граждане гарантируют дать своему государству. В этом и состоит их различ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78343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1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рава и свободы человека принадлежат каждому от р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жи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2303280" cy="16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68360" y="26028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Каждый имеет право на свободу и личную неприкоснов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Жилище неприкосновенно. Никто не вправе проникать в жилище против воли проживающих в нём л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3357" r="0" b="0"/>
          <a:stretch/>
        </p:blipFill>
        <p:spPr>
          <a:xfrm>
            <a:off x="3924360" y="3357720"/>
            <a:ext cx="3816360" cy="2611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7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труд, право выбирать род деятельности и профессию. Каждый имеет право на отд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62888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219640" y="3417840"/>
            <a:ext cx="3673440" cy="2701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0503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ья находится под защитой государства. Забота о детях, их воспитание – право и обязанность родителей. Дети, достигшие 18 лет, должны заботиться о нетрудоспособных родите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2376720" cy="1640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087640" cy="1955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7689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храну здоровья и медицинскую помо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32000" y="2583000"/>
            <a:ext cx="259236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77612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3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057400" cy="2800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754360" cy="162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2737080" cy="1525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183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обязан сохранять природу и окружающую среду, бережно относиться к природным богат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2990880" cy="217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024360" cy="2085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02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9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а Отечества является долгом и обязанностью гражданин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866960" cy="2951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3059280" y="3284640"/>
            <a:ext cx="3024000" cy="1938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2217600" cy="2232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7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флаг, герб и гимн Российской Федерации устанавливаются федеральным законом. Столицей Российской Федерации является город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816280" cy="331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561000" y="3500280"/>
            <a:ext cx="2583000" cy="3357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ОНСТИТУЦИЯ   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ФЕДЕРАЦИИ  –  ОСНОВНОЙ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АК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1895400" cy="28288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790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СКВА  –  СТОЛИЦА 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1887480" cy="25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940360" y="4780080"/>
            <a:ext cx="2592360" cy="192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516720" y="1628640"/>
            <a:ext cx="182556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3635280" y="1484280"/>
            <a:ext cx="2054160" cy="170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6"/>
          <a:stretch/>
        </p:blipFill>
        <p:spPr>
          <a:xfrm>
            <a:off x="3564000" y="3573360"/>
            <a:ext cx="2233440" cy="1671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186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8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идент Российской Федерации является глав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5429520" cy="4132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84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едатель Правительства Российской Федерации назначается Президентом Российской Федерации с согласия Государственной Ду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2357280" y="2857680"/>
            <a:ext cx="3934080" cy="4000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судие в Российской Федерации осуществляется только су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5832360" cy="210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157480" cy="51530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оссийской Федерации вступает в силу со дня официального его опубликования по результатам народного голос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всенародного голосования 12 декабря 1993 года считается днём принятия Конституции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зное время в нашей стране были приняты три Конститу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24 году                            в 1936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77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70496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3708360" y="4705200"/>
            <a:ext cx="1381320" cy="2152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3"/>
          <p:cNvSpPr txBox="1"/>
          <p:nvPr/>
        </p:nvSpPr>
        <p:spPr>
          <a:xfrm>
            <a:off x="2700360" y="404640"/>
            <a:ext cx="43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оль Конституци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363600" y="134136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1.Обеспечивает ставильность в обществе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363600" y="2222640"/>
            <a:ext cx="8353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2.Обеспечивает легитимность и преемственность власти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363600" y="3105000"/>
            <a:ext cx="83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.Закрепляет политическую, социальную 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кономическую основу обще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365040" y="453384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.Определяет политический и правовой режимы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2" name="WordArt 8"/>
          <p:cNvSpPr txBox="1"/>
          <p:nvPr/>
        </p:nvSpPr>
        <p:spPr>
          <a:xfrm>
            <a:off x="365040" y="5416560"/>
            <a:ext cx="8353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.закрепляет национальное и территориально-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осударственное устройство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осударственный флаг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Picture 3" descr="Флаг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514600"/>
            <a:ext cx="3886200" cy="2646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принятия: 08.12.20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ый флаг Российской Федерации – это прямоугольное полотнище трех равновеликих горизонтальных полос: верхней – белого цвета, средней – синего, а нижней – красного цв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ерб Российской Федерации (герб России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560" y="4572000"/>
            <a:ext cx="510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ый герб Росс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29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л увенчан двумя малыми коронами и – над ними – одной большой короной, соединенными лентой. В правой лапе орла – скипетр, в левой – держава. На груди орла в красном щите – серебряный всадник в синем плаще на серебряном коне, поражающий серебряным копьем черного, опрокинутого навзничь и попранного конем драк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0.12.20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Герб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600200"/>
            <a:ext cx="2205000" cy="266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имн Российской Федерации (гимн России)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(слова С.Михалкова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священная наша держав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любимая наша стран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гучая воля, великая слава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е достоянье на все времен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 южных морей до полярного кра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кинулись наши леса и поля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дна ты на свете! Одна ты такая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ранимая Богом родная земля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-й куплет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ирокий простор для мечты и для жизн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рядущие нам открывают год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м силу дает наша верность Отчизне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к было, так есть и так будет всегд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 декабря 2000 г. государственным гимном Российской Федерации являлась мелодия, созданная на основе «Патриотической песни» М.И.Глинк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07.03.2001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 Конститу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еводе с латинского языка слово “конституция” обозначает “устройство”, то есть то, как устраивается, строится государство. В нашей стране много законов, но главным законом нашего государства, основные правила по которым мы живем, записаны в Конституции. В знак уважения к основному закону страны слово “Конституция” пишется с заглавной бук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Россия есть единое многонациональное демократическое государство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толковом словаре написано, что “демократия” в переводе с греческого языка переводится как “народ” и “власть” или “народовластие”. Значит, в нашей стране народу принадлежит власть, и он может участвовать в управлении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езидент Росс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“президент” в переводе с латинского языка означает “сидящий впереди, во главе”. Действительно, Президент России – это глава нашего государства, который избирается в соответствии с Конституцией Российской Федерации, в которой оговариваются его права и обязанно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идентом Российской Федерации может быть избран гражданин Российской Федерации не моложе 35 лет, постоянно проживающий в Российской Федерации не менее 10 лет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стоящее время Президентом России является Дмитрий Анатольевич  Медведев, который совместно с Правительством является исполнительной властью государ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тличие от них, Государственная Дума является законодательной властью. Законодательная, то есть, принимающая законы. Она избирается, как и Президент, всенародно на 4 года. В ее состав входят 450 депутатов. В статьях 96 и 97 Конституции указывается на то, что каждый гражданин с 18 лет может выбирать представителей в Государственную Думу и сам может быть избранным в ее состав, если ему 21 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322880" cy="293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ебная власть.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ть осуществляет правосудие, следит за исполнением законов исполнительной и законодательною властями, разрешает конфликты, восстанавливает права, наказывает правонарушителей. Судебная власть осуществляется только судом, как отмечено в статье 118 Конституции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9:35Z</dcterms:created>
  <dc:creator>Шурик</dc:creator>
  <dc:description/>
  <dc:language>en-US</dc:language>
  <cp:lastModifiedBy>Admin</cp:lastModifiedBy>
  <dcterms:modified xsi:type="dcterms:W3CDTF">2013-12-04T04:28:14Z</dcterms:modified>
  <cp:revision>15</cp:revision>
  <dc:subject/>
  <dc:title>КОНСТИТУЦИЯ  РОССИЙСКОЙ ФЕДЕРАЦИИ</dc:title>
</cp:coreProperties>
</file>